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wmf" ContentType="image/x-wmf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FC67-AF99-4BE7-A395-8EC53B77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59C-EABF-4997-B142-886BD0DB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E0B0-AB03-40C7-8AC8-B56FB0E2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F62D-09E5-42F4-ADFF-1D9348C7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7BDE-D265-434B-B3A3-7428D149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92D8-4F86-4BB8-A011-009CD791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01E3-408B-4198-AE4A-82BA741A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8C3C-37E7-4E69-8B1E-8342DCDE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0EEE-3483-4429-A86C-34F819C8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B435-3C19-43D2-9916-B7B00231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1B9D-825C-4AB5-BA9C-09DC0C89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292-9218-47B2-8D95-F7EC6C3A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3B9A-00CB-4779-B424-C67BF691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ADF4-6ABB-419B-A335-10DF253F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851C-B984-4B96-843A-D9959B4D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AF63-3415-433F-B1EC-2043DD68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FB09-A980-4066-AEFE-371B2E8C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448-2DAF-4830-8C66-8FD28C6C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5EF3-DCA7-4D7D-BBE4-D2A12265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E26-AB33-4D59-AD7E-FE4C289D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D8CB-0A0B-43BE-9D61-81F8FC28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827-5FFB-427C-985A-6ED22392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10D8-C61A-4634-B4F1-36E160D6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52B6-A0E0-43DC-8241-A9432785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A6C0-E483-441D-B330-8AF9B84C79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2EA5-B150-4798-A4B5-5C040B4815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rcRect l="19685" t="0" r="0" b="0"/>
          <a:stretch/>
        </p:blipFill>
        <p:spPr>
          <a:xfrm>
            <a:off x="-4680" y="6307200"/>
            <a:ext cx="9185040" cy="5508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8680" y="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66ffff"/>
              </a:buClr>
              <a:buSzPct val="65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7"/>
          </p:nvPr>
        </p:nvSpPr>
        <p:spPr>
          <a:xfrm>
            <a:off x="4328640" y="6400440"/>
            <a:ext cx="48150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7320" y="735120"/>
            <a:ext cx="7988400" cy="489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rcRect l="0" t="0" r="0" b="26247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466200"/>
            <a:ext cx="7010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Bit-Line Leakage Cancellation: </a:t>
            </a:r>
            <a:br>
              <a:rPr sz="3600"/>
            </a:br>
            <a:r>
              <a:rPr b="1" lang="en-US" sz="3600" spc="-1" strike="noStrike">
                <a:solidFill>
                  <a:srgbClr val="cccc00"/>
                </a:solidFill>
                <a:latin typeface="Arial"/>
              </a:rPr>
              <a:t>Design and Test Automation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hanshu Kh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E3FB-3EB5-49AF-9A47-5C595991E66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-BIST Design Flo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havioral Verilog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NC-Veril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al Verilog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RTL Compi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 and Route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Encounter</a:t>
            </a:r>
            <a:r>
              <a:rPr b="1" lang="en-US" sz="26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tion with Custom Memory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Virtuo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5400000">
            <a:off x="4351680" y="2361240"/>
            <a:ext cx="380880" cy="182520"/>
          </a:xfrm>
          <a:prstGeom prst="rightArrow">
            <a:avLst>
              <a:gd name="adj1" fmla="val 50000"/>
              <a:gd name="adj2" fmla="val 5217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4364280" y="3299400"/>
            <a:ext cx="380880" cy="182520"/>
          </a:xfrm>
          <a:prstGeom prst="rightArrow">
            <a:avLst>
              <a:gd name="adj1" fmla="val 50000"/>
              <a:gd name="adj2" fmla="val 5217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4364280" y="4290120"/>
            <a:ext cx="380880" cy="182520"/>
          </a:xfrm>
          <a:prstGeom prst="rightArrow">
            <a:avLst>
              <a:gd name="adj1" fmla="val 50000"/>
              <a:gd name="adj2" fmla="val 5217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4364280" y="5280840"/>
            <a:ext cx="381240" cy="182520"/>
          </a:xfrm>
          <a:prstGeom prst="rightArrow">
            <a:avLst>
              <a:gd name="adj1" fmla="val 50000"/>
              <a:gd name="adj2" fmla="val 52219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2BA-E977-4A9C-BDA7-1906432F92B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p-Down Flow Issues Fac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TL Compli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used Nets connect to VDD, V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puts of standard blocks e.g. Carry-In of Add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used bus signals: e.g. Z[4] of a bus Z[11:0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 &gt;   vs    [ 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rtuo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5334120" cy="22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498-2DFD-438D-B22F-E3C26CB0DCA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971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 for your time 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BF9D-F7BC-453F-97B8-9C0D35B1102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4038480"/>
            <a:ext cx="8229600" cy="20574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1752480"/>
            <a:ext cx="8229600" cy="20574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liverab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-Line Leakage Cancel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-Chip High Speed Te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ory B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2362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BOTTOM – UP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466416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TOP – DOWN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D96-252A-43E5-87F1-8487812F045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oals &amp; Constraints: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1 Cache desig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hieve High Den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00"/>
                </a:solidFill>
                <a:latin typeface="Arial"/>
              </a:rPr>
              <a:t>How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ore Bit-Cells, Less Periph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hieve High Sp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00"/>
                </a:solidFill>
                <a:latin typeface="Arial"/>
              </a:rPr>
              <a:t>How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ower Read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1 bit-cells use Low-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is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ory-Vdd must be same as Core-Vd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&gt; Can’t use Multi-Vdd to increase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05E3-7219-457F-8159-EC4C688196C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44440" y="990720"/>
            <a:ext cx="8534520" cy="33368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-15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y is Bit-Line Leakage an Issu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4156200"/>
            <a:ext cx="792468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llenges (Scaling issu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ly solution: Reduce # cells on a bit-line   </a:t>
            </a:r>
            <a:r>
              <a:rPr b="1" lang="en-US" sz="2100" spc="-1" strike="noStrike">
                <a:solidFill>
                  <a:srgbClr val="cccc00"/>
                </a:solidFill>
                <a:latin typeface="Arial"/>
              </a:rPr>
              <a:t>=&gt; Lower Dens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402-AB42-44C5-AC4A-7A4D2BC57BE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8001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y is Bit-Line Leakage an Issu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4689000"/>
            <a:ext cx="807732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 differential = V(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– V(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LB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leaks, differential lowers  (data-dependent too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cc00"/>
                </a:solidFill>
                <a:latin typeface="Arial"/>
              </a:rPr>
              <a:t>More time needed to generate same differential   =&gt; Lower Spe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3157560" cy="3276720"/>
          </a:xfrm>
          <a:prstGeom prst="rect">
            <a:avLst/>
          </a:prstGeom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897440" y="1066680"/>
            <a:ext cx="3027240" cy="3276720"/>
          </a:xfrm>
          <a:prstGeom prst="rect">
            <a:avLst/>
          </a:prstGeom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6A27-A66A-4E25-9453-540DBB1C154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is Bit-line leakage an issu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ced technology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Issu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igh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tion, high lea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Resul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mpact on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-threshold mem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Issu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ow 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Resul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nergy penalty due to higher required BL sw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Temperature Compliant Mem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ternative memor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919D-4FBD-4AB0-B559-96F128D043F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-766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it-line Leakage Cancell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nse leakage value during pre-char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ject opposite current during re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rawback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 -&gt; I conversion inaccurac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-charge to V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quir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933960" cy="23716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3244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gawa et al, 200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7AB-383C-4265-80D7-840AAC256AC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09680" y="234936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gh Speed Testing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909960" y="3263400"/>
            <a:ext cx="1020960" cy="811800"/>
            <a:chOff x="3909960" y="3263400"/>
            <a:chExt cx="1020960" cy="811800"/>
          </a:xfrm>
        </p:grpSpPr>
        <p:sp>
          <p:nvSpPr>
            <p:cNvPr id="254" name=""/>
            <p:cNvSpPr/>
            <p:nvPr/>
          </p:nvSpPr>
          <p:spPr>
            <a:xfrm>
              <a:off x="3909960" y="3263760"/>
              <a:ext cx="1080" cy="8114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909960" y="3668400"/>
              <a:ext cx="851040" cy="4064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3909960" y="3263400"/>
              <a:ext cx="851040" cy="4064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59920" y="3587760"/>
              <a:ext cx="171000" cy="163080"/>
            </a:xfrm>
            <a:prstGeom prst="ellipse">
              <a:avLst/>
            </a:prstGeom>
            <a:solidFill>
              <a:srgbClr val="cccc00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752480" y="3657600"/>
            <a:ext cx="2143080" cy="144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29200" y="3657600"/>
            <a:ext cx="205740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2133720"/>
            <a:ext cx="1828800" cy="1143000"/>
          </a:xfrm>
          <a:prstGeom prst="wedgeRoundRectCallout">
            <a:avLst>
              <a:gd name="adj1" fmla="val -6768"/>
              <a:gd name="adj2" fmla="val 76666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2362320"/>
            <a:ext cx="167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2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3473280"/>
            <a:ext cx="228600" cy="381240"/>
          </a:xfrm>
          <a:prstGeom prst="rect">
            <a:avLst/>
          </a:prstGeom>
          <a:solidFill>
            <a:srgbClr val="cc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4267080"/>
            <a:ext cx="190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GHz I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4343400"/>
            <a:ext cx="2286000" cy="1219320"/>
          </a:xfrm>
          <a:prstGeom prst="wedgeRoundRectCallout">
            <a:avLst>
              <a:gd name="adj1" fmla="val -53402"/>
              <a:gd name="adj2" fmla="val -9270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05720" y="44956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20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0" y="1981080"/>
            <a:ext cx="2057400" cy="1067040"/>
          </a:xfrm>
          <a:prstGeom prst="wedgeRoundRectCallout">
            <a:avLst>
              <a:gd name="adj1" fmla="val 1699"/>
              <a:gd name="adj2" fmla="val 106546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Analy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10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09520" y="35496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62920" y="35449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5715000"/>
            <a:ext cx="46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ou can make a FAST inverter, but you cant see i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FBBA-B513-473D-8CF5-D1BE45B565E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8680" y="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Memory BIS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110360" y="1936800"/>
            <a:ext cx="0" cy="21366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924680" y="3333600"/>
            <a:ext cx="7365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33680" y="3116160"/>
            <a:ext cx="1192320" cy="16344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13160" y="2798640"/>
            <a:ext cx="2050920" cy="51120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21000" y="2438280"/>
            <a:ext cx="2970360" cy="86040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2208240"/>
            <a:ext cx="4470480" cy="895320"/>
          </a:xfrm>
          <a:custGeom>
            <a:avLst/>
            <a:gdLst/>
            <a:ahLst/>
            <a:rect l="l" t="t" r="r" b="b"/>
            <a:pathLst>
              <a:path w="2816" h="564">
                <a:moveTo>
                  <a:pt x="0" y="0"/>
                </a:moveTo>
                <a:lnTo>
                  <a:pt x="2816" y="0"/>
                </a:lnTo>
                <a:lnTo>
                  <a:pt x="2816" y="564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16440" y="345276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41920" y="347832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4800" y="350352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55880" y="3567240"/>
            <a:ext cx="0" cy="723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54080" y="355428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70800" y="1816200"/>
            <a:ext cx="0" cy="1487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45320" y="1828800"/>
            <a:ext cx="0" cy="145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94280" y="1841400"/>
            <a:ext cx="0" cy="14446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12920" y="3424320"/>
            <a:ext cx="3273480" cy="838080"/>
          </a:xfrm>
          <a:custGeom>
            <a:avLst/>
            <a:gdLst/>
            <a:ahLst/>
            <a:rect l="l" t="t" r="r" b="b"/>
            <a:pathLst>
              <a:path w="2062" h="528">
                <a:moveTo>
                  <a:pt x="0" y="528"/>
                </a:moveTo>
                <a:lnTo>
                  <a:pt x="462" y="528"/>
                </a:lnTo>
                <a:lnTo>
                  <a:pt x="462" y="0"/>
                </a:lnTo>
                <a:lnTo>
                  <a:pt x="2062" y="2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54080" y="1522440"/>
            <a:ext cx="0" cy="5079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3200" y="2043000"/>
            <a:ext cx="2755800" cy="14734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86320" y="3303720"/>
            <a:ext cx="663480" cy="242640"/>
          </a:xfrm>
          <a:custGeom>
            <a:avLst/>
            <a:gdLst>
              <a:gd name="textAreaLeft" fmla="*/ 100440 w 663480"/>
              <a:gd name="textAreaRight" fmla="*/ 563040 w 663480"/>
              <a:gd name="textAreaTop" fmla="*/ 36720 h 242640"/>
              <a:gd name="textAreaBottom" fmla="*/ 205920 h 2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50" y="21600"/>
                </a:lnTo>
                <a:lnTo>
                  <a:pt x="2750" y="21600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06680" y="939960"/>
            <a:ext cx="4945320" cy="1126800"/>
          </a:xfrm>
          <a:custGeom>
            <a:avLst/>
            <a:gdLst/>
            <a:ahLst/>
            <a:rect l="l" t="t" r="r" b="b"/>
            <a:pathLst>
              <a:path w="4211" h="978">
                <a:moveTo>
                  <a:pt x="27" y="380"/>
                </a:moveTo>
                <a:cubicBezTo>
                  <a:pt x="18" y="305"/>
                  <a:pt x="0" y="207"/>
                  <a:pt x="36" y="153"/>
                </a:cubicBezTo>
                <a:cubicBezTo>
                  <a:pt x="72" y="99"/>
                  <a:pt x="121" y="61"/>
                  <a:pt x="245" y="53"/>
                </a:cubicBezTo>
                <a:cubicBezTo>
                  <a:pt x="369" y="45"/>
                  <a:pt x="614" y="103"/>
                  <a:pt x="781" y="107"/>
                </a:cubicBezTo>
                <a:cubicBezTo>
                  <a:pt x="948" y="111"/>
                  <a:pt x="1068" y="80"/>
                  <a:pt x="1245" y="80"/>
                </a:cubicBezTo>
                <a:cubicBezTo>
                  <a:pt x="1422" y="80"/>
                  <a:pt x="1647" y="108"/>
                  <a:pt x="1845" y="107"/>
                </a:cubicBezTo>
                <a:cubicBezTo>
                  <a:pt x="2043" y="106"/>
                  <a:pt x="2264" y="79"/>
                  <a:pt x="2434" y="75"/>
                </a:cubicBezTo>
                <a:cubicBezTo>
                  <a:pt x="2604" y="71"/>
                  <a:pt x="2725" y="81"/>
                  <a:pt x="2863" y="80"/>
                </a:cubicBezTo>
                <a:cubicBezTo>
                  <a:pt x="3001" y="79"/>
                  <a:pt x="3149" y="73"/>
                  <a:pt x="3263" y="71"/>
                </a:cubicBezTo>
                <a:cubicBezTo>
                  <a:pt x="3377" y="69"/>
                  <a:pt x="3462" y="60"/>
                  <a:pt x="3545" y="71"/>
                </a:cubicBezTo>
                <a:cubicBezTo>
                  <a:pt x="3628" y="82"/>
                  <a:pt x="3696" y="133"/>
                  <a:pt x="3763" y="135"/>
                </a:cubicBezTo>
                <a:cubicBezTo>
                  <a:pt x="3830" y="137"/>
                  <a:pt x="3873" y="88"/>
                  <a:pt x="3945" y="80"/>
                </a:cubicBezTo>
                <a:cubicBezTo>
                  <a:pt x="4017" y="72"/>
                  <a:pt x="4185" y="0"/>
                  <a:pt x="4198" y="87"/>
                </a:cubicBezTo>
                <a:cubicBezTo>
                  <a:pt x="4211" y="174"/>
                  <a:pt x="4129" y="477"/>
                  <a:pt x="4025" y="600"/>
                </a:cubicBezTo>
                <a:cubicBezTo>
                  <a:pt x="3921" y="723"/>
                  <a:pt x="3757" y="786"/>
                  <a:pt x="3572" y="822"/>
                </a:cubicBezTo>
                <a:cubicBezTo>
                  <a:pt x="3387" y="858"/>
                  <a:pt x="3072" y="834"/>
                  <a:pt x="2916" y="817"/>
                </a:cubicBezTo>
                <a:cubicBezTo>
                  <a:pt x="2760" y="800"/>
                  <a:pt x="2767" y="699"/>
                  <a:pt x="2635" y="721"/>
                </a:cubicBezTo>
                <a:cubicBezTo>
                  <a:pt x="2503" y="743"/>
                  <a:pt x="2318" y="920"/>
                  <a:pt x="2126" y="949"/>
                </a:cubicBezTo>
                <a:cubicBezTo>
                  <a:pt x="1934" y="978"/>
                  <a:pt x="1722" y="909"/>
                  <a:pt x="1480" y="898"/>
                </a:cubicBezTo>
                <a:cubicBezTo>
                  <a:pt x="1238" y="887"/>
                  <a:pt x="859" y="911"/>
                  <a:pt x="671" y="882"/>
                </a:cubicBezTo>
                <a:cubicBezTo>
                  <a:pt x="483" y="853"/>
                  <a:pt x="450" y="767"/>
                  <a:pt x="353" y="721"/>
                </a:cubicBezTo>
                <a:cubicBezTo>
                  <a:pt x="256" y="675"/>
                  <a:pt x="144" y="661"/>
                  <a:pt x="90" y="604"/>
                </a:cubicBezTo>
                <a:cubicBezTo>
                  <a:pt x="36" y="547"/>
                  <a:pt x="36" y="455"/>
                  <a:pt x="27" y="380"/>
                </a:cubicBezTo>
                <a:close/>
              </a:path>
            </a:pathLst>
          </a:custGeom>
          <a:solidFill>
            <a:srgbClr val="00669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51560" y="3100320"/>
            <a:ext cx="644760" cy="46512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27920" y="3957120"/>
            <a:ext cx="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6840" y="115992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Speed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08080" y="119592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rnal Tester (Slow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07120" y="3303720"/>
            <a:ext cx="663480" cy="242640"/>
          </a:xfrm>
          <a:custGeom>
            <a:avLst/>
            <a:gdLst>
              <a:gd name="textAreaLeft" fmla="*/ 100440 w 663480"/>
              <a:gd name="textAreaRight" fmla="*/ 563040 w 663480"/>
              <a:gd name="textAreaTop" fmla="*/ 36720 h 242640"/>
              <a:gd name="textAreaBottom" fmla="*/ 205920 h 2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50" y="21600"/>
                </a:lnTo>
                <a:lnTo>
                  <a:pt x="2750" y="21600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127920" y="3303720"/>
            <a:ext cx="663480" cy="242640"/>
          </a:xfrm>
          <a:custGeom>
            <a:avLst/>
            <a:gdLst>
              <a:gd name="textAreaLeft" fmla="*/ 100440 w 663480"/>
              <a:gd name="textAreaRight" fmla="*/ 563040 w 663480"/>
              <a:gd name="textAreaTop" fmla="*/ 36720 h 242640"/>
              <a:gd name="textAreaBottom" fmla="*/ 205920 h 2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50" y="21600"/>
                </a:lnTo>
                <a:lnTo>
                  <a:pt x="2750" y="21600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84200" y="2598840"/>
            <a:ext cx="1935360" cy="31752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Address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5480" y="2166840"/>
            <a:ext cx="474840" cy="117324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84200" y="2173320"/>
            <a:ext cx="1935360" cy="31752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Data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84200" y="3024360"/>
            <a:ext cx="1935360" cy="31716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Control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25400" y="42714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96600" y="42714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009640" y="30045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121520" y="3587040"/>
            <a:ext cx="557280" cy="27612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140360" y="4051440"/>
            <a:ext cx="4343400" cy="1981080"/>
          </a:xfrm>
          <a:prstGeom prst="bevel">
            <a:avLst>
              <a:gd name="adj" fmla="val 1523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0:40:37Z</dcterms:created>
  <dc:creator>Sudhanshu</dc:creator>
  <dc:description/>
  <dc:language>en-US</dc:language>
  <cp:lastModifiedBy>Sudhanshu</cp:lastModifiedBy>
  <dcterms:modified xsi:type="dcterms:W3CDTF">2010-05-04T14:24:42Z</dcterms:modified>
  <cp:revision>62</cp:revision>
  <dc:subject/>
  <dc:title>Bit-Line Leakage Cancellation:  Design and Test Automation</dc:title>
</cp:coreProperties>
</file>